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386-4613-437C-B483-3235E8A9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AA5-81F7-4F55-92F2-8FF0F982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6F6-EFB1-4DC4-830A-13F775B8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987-5594-405B-BD46-B69C18A2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FBB-A739-4528-90FC-39338805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215-7BE0-4115-8DE0-74A2A3E8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0AC-62B8-4DF4-A04C-177296C3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21B-24BA-4DB6-85F9-26C95DC8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820-F682-4F0B-9FC9-23955388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227-D5F9-472F-A7BF-6259E8F1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AA7-562E-49DC-9D95-0AA1EAC2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9D6B-110A-4301-8B48-97576EF2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AA7D-F6D3-4008-92C1-03D0179A7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43120" y="333360"/>
            <a:ext cx="74577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8:49:14Z</dcterms:created>
  <dc:creator>gilles thomas</dc:creator>
  <dc:description/>
  <dc:language>en-US</dc:language>
  <cp:lastModifiedBy>gilles thomas</cp:lastModifiedBy>
  <dcterms:modified xsi:type="dcterms:W3CDTF">2010-03-18T08:50:3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5765532</vt:r8>
  </property>
  <property fmtid="{D5CDD505-2E9C-101B-9397-08002B2CF9AE}" pid="3" name="_AuthorEmail">
    <vt:lpwstr>gilles.thomas@st.com</vt:lpwstr>
  </property>
  <property fmtid="{D5CDD505-2E9C-101B-9397-08002B2CF9AE}" pid="4" name="_AuthorEmailDisplayName">
    <vt:lpwstr>Gilles THOMAS</vt:lpwstr>
  </property>
  <property fmtid="{D5CDD505-2E9C-101B-9397-08002B2CF9AE}" pid="5" name="_EmailSubject">
    <vt:lpwstr>Publication sur DOTFIVE.</vt:lpwstr>
  </property>
  <property fmtid="{D5CDD505-2E9C-101B-9397-08002B2CF9AE}" pid="6" name="_NewReviewCycle">
    <vt:lpwstr/>
  </property>
</Properties>
</file>