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6E3-1D5E-4E01-8F22-C7757395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1BB-6B70-45DD-BAAA-D5DDFE0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81A-A58B-4896-B222-4AFB1049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325-FE46-422E-B167-34EE1C85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20C-69C8-4562-AC8D-7E2E7B9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9BF-DA33-42D3-B37B-359B771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2DE-2318-4290-8094-519858B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EA6-5AD8-4569-AB0D-BFF2C5A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39A-3612-4B76-BDD0-FBBA810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D00-3270-4146-9F5F-AD59D01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DD9-BF6E-4B34-B11F-6C654DB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240-31D5-4914-9349-1246EC15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336-C55E-4BFE-8CA6-603CA4FE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3120" y="333360"/>
            <a:ext cx="74577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49:14Z</dcterms:created>
  <dc:creator>gilles thomas</dc:creator>
  <dc:description/>
  <dc:language>en-US</dc:language>
  <cp:lastModifiedBy>gilles thomas</cp:lastModifiedBy>
  <dcterms:modified xsi:type="dcterms:W3CDTF">2010-03-18T08:50:3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5765532</vt:r8>
  </property>
  <property fmtid="{D5CDD505-2E9C-101B-9397-08002B2CF9AE}" pid="3" name="_AuthorEmail">
    <vt:lpwstr>gilles.thomas@st.com</vt:lpwstr>
  </property>
  <property fmtid="{D5CDD505-2E9C-101B-9397-08002B2CF9AE}" pid="4" name="_AuthorEmailDisplayName">
    <vt:lpwstr>Gilles THOMAS</vt:lpwstr>
  </property>
  <property fmtid="{D5CDD505-2E9C-101B-9397-08002B2CF9AE}" pid="5" name="_EmailSubject">
    <vt:lpwstr>Publication sur DOTFIVE.</vt:lpwstr>
  </property>
  <property fmtid="{D5CDD505-2E9C-101B-9397-08002B2CF9AE}" pid="6" name="_NewReviewCycle">
    <vt:lpwstr/>
  </property>
</Properties>
</file>